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DF0C-8E6B-42DC-9BC3-10D61BFBB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9300-7DE4-4D8F-A3E9-E313081FA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D9E3-5196-4546-B8C9-388E806F7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A677-66F1-4ED1-AD8C-D34D8DDE4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4EF27-2313-404A-B213-741933884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AFC7C-6406-4886-8B97-41960A4A9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44247-8FCF-4156-943D-A11E49BC5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63308-5ABC-490F-8768-C8918DCC0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C16C0-CDA9-471E-B456-CEC57ADDE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04226-2E9E-4C5C-8308-3BDA6073E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6E21B-E018-4863-AE22-A77BF7E8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B136-1CE3-4540-B23B-C20658034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51341-14CE-4FBC-A854-DD12A447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4FAC7-5F76-44FE-A49A-6F1A540D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658F2-BC69-437F-A886-61175CBFC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6D08A-B74B-4A68-9ED7-426AFFD0C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E2695-B3A2-4A0B-B712-C52C48F82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AE4C-6A5A-43A4-851D-9B50141AE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FDD8-0A4C-41BC-8B6E-38243490A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ED65-B4D9-459E-A18E-AF743E0CB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B9D9-4ED2-47A6-B50A-B4EE79206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75D3-C38C-4D4E-8F81-D710902F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E499-F6AD-4764-8E3D-4143EC4D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04C2-BD4F-4D9D-94E8-61165AD4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83EB1-BFCC-46AA-918D-E52A4456C75F}" type="slidenum">
              <a:rPr b="0" lang="fi-FI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4EC00-9B4A-45FA-A4F5-C1452FC1FA87}" type="slidenum">
              <a:rPr b="0" lang="fi-FI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3810240" cy="41148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03" name=""/>
          <p:cNvSpPr/>
          <p:nvPr/>
        </p:nvSpPr>
        <p:spPr>
          <a:xfrm>
            <a:off x="1676520" y="3657600"/>
            <a:ext cx="838080" cy="685800"/>
          </a:xfrm>
          <a:prstGeom prst="rect">
            <a:avLst/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19320" y="2438280"/>
            <a:ext cx="1676160" cy="1219320"/>
          </a:xfrm>
          <a:prstGeom prst="smileyFace">
            <a:avLst>
              <a:gd name="adj" fmla="val 9282"/>
            </a:avLst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8T12:00:09Z</dcterms:created>
  <dc:creator>atk</dc:creator>
  <dc:description/>
  <dc:language>en-US</dc:language>
  <cp:lastModifiedBy>Kurssi</cp:lastModifiedBy>
  <dcterms:modified xsi:type="dcterms:W3CDTF">2003-02-17T11:18:51Z</dcterms:modified>
  <cp:revision>5</cp:revision>
  <dc:subject/>
  <dc:title>Ei dian otsikkoa</dc:title>
</cp:coreProperties>
</file>